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29.wmf" ContentType="image/x-wmf"/>
  <Override PartName="/ppt/media/image1.png" ContentType="image/png"/>
  <Override PartName="/ppt/media/image31.png" ContentType="image/png"/>
  <Override PartName="/ppt/media/image19.jpeg" ContentType="image/jpeg"/>
  <Override PartName="/ppt/media/image18.png" ContentType="image/png"/>
  <Override PartName="/ppt/media/image6.jpeg" ContentType="image/jpeg"/>
  <Override PartName="/ppt/media/image17.wmf" ContentType="image/x-wmf"/>
  <Override PartName="/ppt/media/image16.png" ContentType="image/png"/>
  <Override PartName="/ppt/media/image24.png" ContentType="image/png"/>
  <Override PartName="/ppt/media/image2.png" ContentType="image/png"/>
  <Override PartName="/ppt/media/image5.jpeg" ContentType="image/jpeg"/>
  <Override PartName="/ppt/media/image11.wmf" ContentType="image/x-wmf"/>
  <Override PartName="/ppt/media/image50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32.wmf" ContentType="image/x-wmf"/>
  <Override PartName="/ppt/media/image34.wmf" ContentType="image/x-wmf"/>
  <Override PartName="/ppt/media/image40.png" ContentType="image/png"/>
  <Override PartName="/ppt/media/image43.wmf" ContentType="image/x-wmf"/>
  <Override PartName="/ppt/media/image44.png" ContentType="image/png"/>
  <Override PartName="/ppt/media/image46.png" ContentType="image/png"/>
  <Override PartName="/ppt/media/image35.wmf" ContentType="image/x-wmf"/>
  <Override PartName="/ppt/media/image36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41.wmf" ContentType="image/x-wmf"/>
  <Override PartName="/ppt/media/image45.gif" ContentType="image/gif"/>
  <Override PartName="/ppt/media/image52.wmf" ContentType="image/x-wmf"/>
  <Override PartName="/ppt/media/image15.wmf" ContentType="image/x-wmf"/>
  <Override PartName="/ppt/media/image53.png" ContentType="image/png"/>
  <Override PartName="/ppt/media/image42.wmf" ContentType="image/x-wmf"/>
  <Override PartName="/ppt/media/image55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7.png" ContentType="image/pn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37.png" ContentType="image/png"/>
  <Override PartName="/ppt/media/image51.png" ContentType="image/png"/>
  <Override PartName="/ppt/media/image49.wmf" ContentType="image/x-wmf"/>
  <Override PartName="/ppt/media/image12.wmf" ContentType="image/x-wmf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B7E0-8ED4-44BB-AD0F-A8CE252EB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3D00-763B-4004-8D6B-7E77AB2EE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endees can brainstorm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F8D2-2BB7-49E4-8FC9-0A927BC55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FE1-B467-417B-8DD5-54CBD27E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36B-58B3-4DF7-93DA-C375F1B2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F02-FE75-4A26-AC72-F33D299A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DAB-D303-45A4-9AB1-127B611D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BD0D-D5AC-48B9-84FC-DAE6E879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373A-5DCC-47A2-B35C-E463DCFB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3523-2E73-481F-A899-CA8A6207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2D3C-E835-429C-8FED-4DAFD853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2344-E5A2-41B0-90A6-FA0D2E01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9413-8B6A-404B-9928-923F1570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03A0-C64C-409E-B073-B0135868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C50-7D42-4550-B86C-04C1C801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900C-53DE-4BC6-AD8D-761C9B57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295C-11D7-4B6B-872C-451DE2A1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6B3B-E804-423E-950C-C90B9313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C151-96C4-4CA6-AAAE-167A6D6A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ADE7-5A42-41CC-83D7-D6140BA8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DDFEE-CFF9-4E56-99FB-917621F6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9F195-EAC0-46F5-9085-32166559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964D-E1B8-460E-8343-E1677C26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341C4-F150-4F4C-95B1-AF424FD8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EECF0-A0C3-4AA8-800D-A5875898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877-1E19-4F9F-AABE-AC505E18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77B19-7FCB-49D7-92C2-B7BB8DE1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B4300-8E82-419D-8609-2EF6542F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40EF-E519-4744-A710-D4F0A61D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CC563-A417-41E2-84E4-867CD9CF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24CF-E74A-4481-8189-2D74C343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9B27-4798-47AC-BA54-FD8C8118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B1D88-8084-42F9-92B9-48897A5F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86523-0468-4AD9-97D9-2CB363D3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88594-FCCC-4546-A5EF-2F0F5A08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9F0C2-691A-4E70-A992-F962EA0C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8F4-42F8-43EE-A549-AD0B5F94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7EA86-FAD7-4A70-A3A2-2890F29D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7B728-9281-4668-A395-4A1ED24B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47101-AA56-4D88-8B83-4BEC256C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02FE6-842D-4826-A532-55C9D9BF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4F2E9-9023-4EC2-B4D5-A3F9BAE5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51E6E-207D-4051-8E64-FB11B3B7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C016E-A00B-43FB-8EDE-DB637C00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01BB2-B49A-44C8-B353-659CF817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99DE7-A4DE-4BF0-A2DD-E2C48F68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DCCBF-5453-4E13-B215-D5BF3EEA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8A0-AE80-42E5-8CBE-925A891F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172B6-DEB8-4251-B092-1B003083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E4924-E535-48A9-9A1B-D09265A2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46804-99AC-4772-A2AC-37D38105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A7ED2-2F6D-4F67-AF63-42690CEC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ED019-01C8-43A0-AE3A-F4184364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005CB-C1A5-4F19-AAF7-E1FB9AD2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8ACD3-7E4F-486D-8CE0-65984C15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D9DE4-B0AA-4A5F-9815-3B7F4208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5B3A0-007C-4044-BB51-75D9D2F6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38685-275B-4CC2-94BC-5F9125F7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CE0-C7B6-43A4-99D6-4B6F537C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E380E-6C14-4F47-B166-B1E2AEB4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813EB-7241-4577-9516-09D069D5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7656A-2DA3-4917-ACE8-1258EE7F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380F1-AAA6-4F4A-B3DD-7257D6F5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8B1F3-C568-4287-99E7-E1DD1B6A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92FC9-65CB-4056-9565-534EF981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0BEED-892A-4E96-A7EB-1E68EB0D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A14BF-62CF-44DB-A5DD-D9783473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CF5B6-C461-4C6C-9F2A-8826514F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BEDA0-7E33-4682-9EAF-F31FF94E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3E1-ABA2-4640-9A92-2C2D0E41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A8562-DC53-4D91-A3D4-22998EF6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2D752-AE9F-4672-B884-0B30E1EB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B2ACB-AD1E-41C2-A9BE-84ADD79E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1DC2E-15D1-4818-BC06-D7B98FB2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CA8A6-AE12-44D9-9BB5-D430DF8E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F7735-5686-4AF9-B4F9-0128D994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6B464-3D77-486F-A5EA-78326E76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AB74B-ADCF-4731-9C6F-5736A97A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5EBDD-964A-4E70-A706-BCDA6E3C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6ABFA-CA1B-4DF8-BA30-75833A91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4C6-ADC7-471C-A232-6F8E4C81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67786-6745-45AB-A20F-5ED2A4B4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29191-7231-4105-9296-36BFB0A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6A804-A7F9-4BA4-A02F-F53CF322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50821-BB7D-443A-B30E-EF33B7B9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6DF57-48C2-4A70-A451-5FCC0D57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A6AF8-C787-4BD5-B1C5-2A83882F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78086-6502-4CFB-93AC-8113622F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50EBB-1626-4CA6-8C69-ED46FDFE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86371-51F3-4E89-B23A-47B55756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A8827-CF30-4F96-9175-70821F70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F81-E06E-4F4D-8A80-6B107179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04254-1F58-436B-AAD3-F8EBE222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F6885-40C5-482E-9904-82106C8D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F03F2-1833-4AE8-84CA-2D8CF60F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BBF2C-3A6F-4238-9E19-6270C70A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F4672-779F-4077-9883-37D8191D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FA61F-BA00-496C-964F-5BFF966B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2D862-3E84-4C3C-8279-C9D230DB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3E21-EBE6-408C-A2D2-5F4EEBAA1F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36a7c"/>
              </a:gs>
              <a:gs pos="50000">
                <a:srgbClr val="7ab3c7"/>
              </a:gs>
              <a:gs pos="100000">
                <a:srgbClr val="336a7c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1c9d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F809-6442-497B-B962-4677971DA4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4CDA-5D23-4C2A-AE0E-4E8D599F4C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266D-17FF-435C-902A-78B45BB9C5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F2EA-7743-4D23-9A54-8DFAC74CD1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0EEC-2C12-45BA-8F63-0EB4B33966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7314-8BDE-40DD-93C3-539367C23C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A264-C3B4-4772-AFE7-79F8CA7467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ryanthabibscience.wikispaces.com/Technology+Resources" TargetMode="External"/><Relationship Id="rId2" Type="http://schemas.openxmlformats.org/officeDocument/2006/relationships/hyperlink" Target="http://classes.lakeviewacademy.com/classes/Teacher%20Webpage%20Patino.htm" TargetMode="External"/><Relationship Id="rId3" Type="http://schemas.openxmlformats.org/officeDocument/2006/relationships/hyperlink" Target="http://lvalibrary.wikispaces.com/" TargetMode="External"/><Relationship Id="rId4" Type="http://schemas.openxmlformats.org/officeDocument/2006/relationships/hyperlink" Target="http://classes.lakeviewacademy.com/classes/Teacher%20Webpage%20Fowler.htm" TargetMode="External"/><Relationship Id="rId5" Type="http://schemas.openxmlformats.org/officeDocument/2006/relationships/hyperlink" Target="http://lakeviewacademysecondgrade.wikispaces.com/" TargetMode="External"/><Relationship Id="rId6" Type="http://schemas.openxmlformats.org/officeDocument/2006/relationships/hyperlink" Target="http://lakeviewacademysecondgrade.wikispaces.com/" TargetMode="External"/><Relationship Id="rId7" Type="http://schemas.openxmlformats.org/officeDocument/2006/relationships/hyperlink" Target="http://lakeviewacademysecondgrade.wikispaces.com/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akeviewliterature.wikispaces.com/" TargetMode="External"/><Relationship Id="rId2" Type="http://schemas.openxmlformats.org/officeDocument/2006/relationships/hyperlink" Target="http://manelymath.wikispaces.com/" TargetMode="External"/><Relationship Id="rId3" Type="http://schemas.openxmlformats.org/officeDocument/2006/relationships/hyperlink" Target="http://marthalipold.wikispaces.com/" TargetMode="External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rtromp.wikispaces.com/" TargetMode="External"/><Relationship Id="rId2" Type="http://schemas.openxmlformats.org/officeDocument/2006/relationships/hyperlink" Target="https://mrslowesclass.wikispaces.com/" TargetMode="External"/><Relationship Id="rId3" Type="http://schemas.openxmlformats.org/officeDocument/2006/relationships/hyperlink" Target="http://educationalwikis.wikispaces.com/Examples+of+educational+wikis" TargetMode="External"/><Relationship Id="rId4" Type="http://schemas.openxmlformats.org/officeDocument/2006/relationships/image" Target="../media/image28.png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achersfirst.com/content/wiki/wikiideas1.cfm" TargetMode="External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1000names.wikispaces.com/" TargetMode="External"/><Relationship Id="rId2" Type="http://schemas.openxmlformats.org/officeDocument/2006/relationships/hyperlink" Target="http://poetrycollaboration.wikispaces.com/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rimaryweb2.wikispaces.com/" TargetMode="Externa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37960" y="2077920"/>
            <a:ext cx="8723520" cy="9097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61760" y="32004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b3b3b"/>
                </a:solidFill>
                <a:latin typeface="Lucida Sans Unicode"/>
              </a:rPr>
              <a:t>Lakeview Academ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b3b3b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3b3b3b"/>
                </a:solidFill>
                <a:latin typeface="Lucida Sans Unicode"/>
              </a:rPr>
              <a:t>Summer Technology Institu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512640" y="-378000"/>
            <a:ext cx="7985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Science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Spanish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Library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4"/>
              </a:rPr>
              <a:t>Music &amp; Dr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5"/>
              </a:rPr>
              <a:t>Lakeview 2</a:t>
            </a:r>
            <a:r>
              <a:rPr b="0" lang="en-US" sz="2700" spc="-1" strike="noStrike" u="sng" baseline="30000">
                <a:solidFill>
                  <a:srgbClr val="00c8c3"/>
                </a:solidFill>
                <a:uFillTx/>
                <a:latin typeface="Lucida Sans Unicode"/>
                <a:hlinkClick r:id="rId6"/>
              </a:rPr>
              <a:t>nd</a:t>
            </a:r>
            <a:r>
              <a:rPr b="0" lang="en-US" sz="2700" spc="-1" strike="noStrike" u="sng" baseline="30000">
                <a:solidFill>
                  <a:srgbClr val="00c8c3"/>
                </a:solidFill>
                <a:uFillTx/>
                <a:latin typeface="Lucida Sans Unicode"/>
                <a:hlinkClick r:id="rId7"/>
              </a:rPr>
              <a:t> Grade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8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C:\Documents and Settings\Melinda.Reinhardt\Local Settings\Temporary Internet Files\Content.IE5\HUYUTHNN\MC900299713[1].wmf"/>
          <p:cNvPicPr/>
          <p:nvPr/>
        </p:nvPicPr>
        <p:blipFill>
          <a:blip r:embed="rId9"/>
          <a:stretch/>
        </p:blipFill>
        <p:spPr>
          <a:xfrm rot="1247400">
            <a:off x="4625640" y="2744280"/>
            <a:ext cx="3727440" cy="3567240"/>
          </a:xfrm>
          <a:prstGeom prst="rect">
            <a:avLst/>
          </a:prstGeom>
          <a:ln w="0">
            <a:noFill/>
          </a:ln>
        </p:spPr>
      </p:pic>
      <p:sp>
        <p:nvSpPr>
          <p:cNvPr id="406" name="TextBox 4"/>
          <p:cNvSpPr/>
          <p:nvPr/>
        </p:nvSpPr>
        <p:spPr>
          <a:xfrm>
            <a:off x="6477120" y="1981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 coming in from Sp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Ma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Sci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Documents and Settings\Melinda.Reinhardt\Local Settings\Temporary Internet Files\Content.IE5\RYAW103F\MC900141055[1].wmf"/>
          <p:cNvPicPr/>
          <p:nvPr/>
        </p:nvPicPr>
        <p:blipFill>
          <a:blip r:embed="rId5"/>
          <a:stretch/>
        </p:blipFill>
        <p:spPr>
          <a:xfrm rot="20974800">
            <a:off x="4038120" y="2285640"/>
            <a:ext cx="4041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37160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Mr. Tromp's Wi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Mrs. Lowe's Clas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used wix.com to create a webpage within a wik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Wikispaces Educational Wik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le 1" descr=""/>
          <p:cNvPicPr/>
          <p:nvPr/>
        </p:nvPicPr>
        <p:blipFill>
          <a:blip r:embed="rId4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C:\Documents and Settings\Melinda.Reinhardt\Local Settings\Temporary Internet Files\Content.IE5\X058U0TE\MC900060335[1].wmf"/>
          <p:cNvPicPr/>
          <p:nvPr/>
        </p:nvPicPr>
        <p:blipFill>
          <a:blip r:embed="rId5"/>
          <a:stretch/>
        </p:blipFill>
        <p:spPr>
          <a:xfrm rot="20251800">
            <a:off x="5261040" y="4200480"/>
            <a:ext cx="32083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2" descr=""/>
          <p:cNvPicPr/>
          <p:nvPr/>
        </p:nvPicPr>
        <p:blipFill>
          <a:blip r:embed="rId1"/>
          <a:stretch/>
        </p:blipFill>
        <p:spPr>
          <a:xfrm>
            <a:off x="311040" y="1090440"/>
            <a:ext cx="852192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deas for Collaboration in Lower Scho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Teachers First Wiki Ide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C:\Documents and Settings\Melinda.Reinhardt\Local Settings\Temporary Internet Files\Content.IE5\TLI7FTPQ\MC900055194[1].wmf"/>
          <p:cNvPicPr/>
          <p:nvPr/>
        </p:nvPicPr>
        <p:blipFill>
          <a:blip r:embed="rId3"/>
          <a:stretch/>
        </p:blipFill>
        <p:spPr>
          <a:xfrm rot="20782800">
            <a:off x="5048280" y="3487320"/>
            <a:ext cx="36194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p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What Does 1,000 Look Lik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Poet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C:\Documents and Settings\Melinda.Reinhardt\Local Settings\Temporary Internet Files\Content.IE5\HUYUTHNN\MC900335524[1].wmf"/>
          <p:cNvPicPr/>
          <p:nvPr/>
        </p:nvPicPr>
        <p:blipFill>
          <a:blip r:embed="rId4"/>
          <a:stretch/>
        </p:blipFill>
        <p:spPr>
          <a:xfrm>
            <a:off x="6095880" y="1371600"/>
            <a:ext cx="1819440" cy="16272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C:\Documents and Settings\Melinda.Reinhardt\Local Settings\Temporary Internet Files\Content.IE5\X058U0TE\MC900094829[1].wmf"/>
          <p:cNvPicPr/>
          <p:nvPr/>
        </p:nvPicPr>
        <p:blipFill>
          <a:blip r:embed="rId5"/>
          <a:stretch/>
        </p:blipFill>
        <p:spPr>
          <a:xfrm>
            <a:off x="3733920" y="3505320"/>
            <a:ext cx="175248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Elemenatory Blogs, Wikis, Podcasts, and mor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gger  - can use your Google login info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idBlog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41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C:\Documents and Settings\Melinda.Reinhardt\Local Settings\Temporary Internet Files\Content.IE5\QOC0DUV5\MP900422533[1].jpg"/>
          <p:cNvPicPr/>
          <p:nvPr/>
        </p:nvPicPr>
        <p:blipFill>
          <a:blip r:embed="rId2"/>
          <a:stretch/>
        </p:blipFill>
        <p:spPr>
          <a:xfrm>
            <a:off x="3200400" y="25909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6" descr=""/>
          <p:cNvPicPr/>
          <p:nvPr/>
        </p:nvPicPr>
        <p:blipFill>
          <a:blip r:embed="rId1"/>
          <a:stretch/>
        </p:blipFill>
        <p:spPr>
          <a:xfrm>
            <a:off x="231840" y="347760"/>
            <a:ext cx="4498920" cy="3170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C:\Documents and Settings\Melinda.Reinhardt\Local Settings\Temporary Internet Files\Content.IE5\QOC0DUV5\MC900304311[1].wmf"/>
          <p:cNvPicPr/>
          <p:nvPr/>
        </p:nvPicPr>
        <p:blipFill>
          <a:blip r:embed="rId2"/>
          <a:stretch/>
        </p:blipFill>
        <p:spPr>
          <a:xfrm>
            <a:off x="4952880" y="1676520"/>
            <a:ext cx="228924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room Proj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aborative Wikis (wikis you create and link t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ent P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ducational  Online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Documents and Settings\Melinda.Reinhardt\Local Settings\Temporary Internet Files\Content.IE5\4B7TA4PV\MC900250659[1].wmf"/>
          <p:cNvPicPr/>
          <p:nvPr/>
        </p:nvPicPr>
        <p:blipFill>
          <a:blip r:embed="rId2"/>
          <a:stretch/>
        </p:blipFill>
        <p:spPr>
          <a:xfrm rot="20312400">
            <a:off x="6175080" y="4168800"/>
            <a:ext cx="2187360" cy="17701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C:\Documents and Settings\Melinda.Reinhardt\Local Settings\Temporary Internet Files\Content.IE5\2MM01B8X\MC900439909[1].wmf"/>
          <p:cNvPicPr/>
          <p:nvPr/>
        </p:nvPicPr>
        <p:blipFill>
          <a:blip r:embed="rId3"/>
          <a:stretch/>
        </p:blipFill>
        <p:spPr>
          <a:xfrm rot="1418400">
            <a:off x="6671880" y="696600"/>
            <a:ext cx="1857240" cy="1359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C:\Documents and Settings\Melinda.Reinhardt\Local Settings\Temporary Internet Files\Content.IE5\2MM01B8X\MC900197899[1].wmf"/>
          <p:cNvPicPr/>
          <p:nvPr/>
        </p:nvPicPr>
        <p:blipFill>
          <a:blip r:embed="rId4"/>
          <a:stretch/>
        </p:blipFill>
        <p:spPr>
          <a:xfrm>
            <a:off x="1905120" y="4495680"/>
            <a:ext cx="22730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C:\Documents and Settings\Melinda.Reinhardt\Local Settings\Temporary Internet Files\Content.IE5\X058U0TE\MM900046631[1].gif"/>
          <p:cNvPicPr/>
          <p:nvPr/>
        </p:nvPicPr>
        <p:blipFill>
          <a:blip r:embed="rId2"/>
          <a:stretch/>
        </p:blipFill>
        <p:spPr>
          <a:xfrm>
            <a:off x="3886200" y="1981080"/>
            <a:ext cx="36352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b resources, games, etc.  for students to practice mater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ine text inf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pter by chapter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ject rubrics/instru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ussion pages for reading assign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ources  to help with spelling and voca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ctures, slide shows, vide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nks to other wik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gn up sheets for ev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ogle Calend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6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" descr="C:\Documents and Settings\Melinda.Reinhardt\Local Settings\Temporary Internet Files\Content.IE5\80BOSIGC\MC900234430[1].wmf"/>
          <p:cNvPicPr/>
          <p:nvPr/>
        </p:nvPicPr>
        <p:blipFill>
          <a:blip r:embed="rId2"/>
          <a:stretch/>
        </p:blipFill>
        <p:spPr>
          <a:xfrm>
            <a:off x="2895480" y="1676520"/>
            <a:ext cx="37674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weetsear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rcRect l="24360" t="25129" r="23560" b="9746"/>
          <a:stretch/>
        </p:blipFill>
        <p:spPr>
          <a:xfrm>
            <a:off x="1752480" y="2209680"/>
            <a:ext cx="4748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C:\Documents and Settings\Melinda.Reinhardt\Local Settings\Temporary Internet Files\Content.IE5\ZFCO4CTT\MC900441523[1].wmf"/>
          <p:cNvPicPr/>
          <p:nvPr/>
        </p:nvPicPr>
        <p:blipFill>
          <a:blip r:embed="rId2"/>
          <a:stretch/>
        </p:blipFill>
        <p:spPr>
          <a:xfrm>
            <a:off x="2819520" y="1752480"/>
            <a:ext cx="396864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218960"/>
            <a:ext cx="822960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ki Webina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ki Help (How to…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cific  Hel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student accou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your own page l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C:\Documents and Settings\Melinda.Reinhardt\Local Settings\Temporary Internet Files\Content.IE5\TLI7FTPQ\MC900366354[1].wmf"/>
          <p:cNvPicPr/>
          <p:nvPr/>
        </p:nvPicPr>
        <p:blipFill>
          <a:blip r:embed="rId2"/>
          <a:stretch/>
        </p:blipFill>
        <p:spPr>
          <a:xfrm rot="1349400">
            <a:off x="5772240" y="1199880"/>
            <a:ext cx="23619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ttingtrickywithwik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ore on wik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udents who are home si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C:\Documents and Settings\Melinda.Reinhardt\Local Settings\Temporary Internet Files\Content.IE5\2MM01B8X\MC900347477[1].wmf"/>
          <p:cNvPicPr/>
          <p:nvPr/>
        </p:nvPicPr>
        <p:blipFill>
          <a:blip r:embed="rId2"/>
          <a:stretch/>
        </p:blipFill>
        <p:spPr>
          <a:xfrm>
            <a:off x="3665520" y="2682720"/>
            <a:ext cx="377820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ents, relatives, and frie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C:\Documents and Settings\Melinda.Reinhardt\Local Settings\Temporary Internet Files\Content.IE5\XL0O486A\MC900442094[1].wmf"/>
          <p:cNvPicPr/>
          <p:nvPr/>
        </p:nvPicPr>
        <p:blipFill>
          <a:blip r:embed="rId2"/>
          <a:stretch/>
        </p:blipFill>
        <p:spPr>
          <a:xfrm>
            <a:off x="2895480" y="2743200"/>
            <a:ext cx="40197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udents from all over the wor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C:\Documents and Settings\Melinda.Reinhardt\Local Settings\Temporary Internet Files\Content.IE5\X058U0TE\MC900088884[1].wmf"/>
          <p:cNvPicPr/>
          <p:nvPr/>
        </p:nvPicPr>
        <p:blipFill>
          <a:blip r:embed="rId2"/>
          <a:stretch/>
        </p:blipFill>
        <p:spPr>
          <a:xfrm>
            <a:off x="4572000" y="2971800"/>
            <a:ext cx="36385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of the fabulous things you are doing in your classroom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C:\Documents and Settings\Melinda.Reinhardt\Local Settings\Temporary Internet Files\Content.IE5\3JCCAIOM\MC900187155[1].wmf"/>
          <p:cNvPicPr/>
          <p:nvPr/>
        </p:nvPicPr>
        <p:blipFill>
          <a:blip r:embed="rId2"/>
          <a:stretch/>
        </p:blipFill>
        <p:spPr>
          <a:xfrm rot="20349600">
            <a:off x="4509720" y="3006360"/>
            <a:ext cx="3651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ves parents and students one place to go for all of your classroom in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C:\Documents and Settings\Melinda.Reinhardt\Local Settings\Temporary Internet Files\Content.IE5\PFLG1KZP\MC900030046[1].wmf"/>
          <p:cNvPicPr/>
          <p:nvPr/>
        </p:nvPicPr>
        <p:blipFill>
          <a:blip r:embed="rId2"/>
          <a:stretch/>
        </p:blipFill>
        <p:spPr>
          <a:xfrm>
            <a:off x="2514600" y="3048120"/>
            <a:ext cx="447192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es anything have to go home on paper anymor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C:\Documents and Settings\Melinda.Reinhardt\Local Settings\Temporary Internet Files\Content.IE5\GXSHWFLP\MP900448676[1].jpg"/>
          <p:cNvPicPr/>
          <p:nvPr/>
        </p:nvPicPr>
        <p:blipFill>
          <a:blip r:embed="rId2"/>
          <a:stretch/>
        </p:blipFill>
        <p:spPr>
          <a:xfrm rot="20530800">
            <a:off x="3201480" y="2749680"/>
            <a:ext cx="39387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C:\Documents and Settings\Melinda.Reinhardt\Local Settings\Temporary Internet Files\Content.IE5\GXSHWFLP\MP900406884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C:\Documents and Settings\Melinda.Reinhardt\Local Settings\Temporary Internet Files\Content.IE5\PFLG1KZP\MC900121085[1].wmf"/>
          <p:cNvPicPr/>
          <p:nvPr/>
        </p:nvPicPr>
        <p:blipFill>
          <a:blip r:embed="rId3"/>
          <a:stretch/>
        </p:blipFill>
        <p:spPr>
          <a:xfrm>
            <a:off x="5562720" y="1447920"/>
            <a:ext cx="310824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19:27:10Z</dcterms:created>
  <dc:creator>Fac - Montgomery,Bruce</dc:creator>
  <dc:description/>
  <dc:language>en-US</dc:language>
  <cp:lastModifiedBy>Fac - Montgomery,Bruce</cp:lastModifiedBy>
  <dcterms:modified xsi:type="dcterms:W3CDTF">2010-07-25T22:18:10Z</dcterms:modified>
  <cp:revision>276</cp:revision>
  <dc:subject/>
  <dc:title>Building Your Classroom Wiki or Webpage</dc:title>
</cp:coreProperties>
</file>